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3F6FD-E6E0-463B-98A3-14E810F60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CE299-B55F-4ED5-ACAF-1AC37E47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A729F-C0DE-4F5B-A9A9-AAF246A5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5C170-9155-446F-B4F3-D98A7832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9C41-2FEA-4134-B6B4-E61E4EF6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61EC-8059-465D-94D1-C6887826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A333-4BCB-4C07-A58B-7E92FB1F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A811-6344-4718-A0B0-586CE6D7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F96E-A524-4BBB-8556-89E1E99C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5FDB-FFE2-4FE6-9105-DCAB1815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563F-42C5-413F-8CD0-B4F2591F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B762E-EBB3-4333-80C4-F3E99862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AA72-B67D-48BD-BEDE-594751EC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1A1D-5398-4F99-A633-1E03E6C4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389DF-C76A-4F2F-AF3D-497ED8411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C46A-D694-4B02-8863-5A870CE7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6E79-A19B-4928-8DD6-0CADBD66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71A9-5D56-45B3-B7A7-6D3342CE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0A6F6-D024-48B6-8201-739BB27D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FAC04-4435-4F5D-9E7E-71847480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D4FD-0AE1-43FB-99E0-9088BB83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4F09C-D0C1-45AE-B17A-A0875FFD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61693-F825-48EC-B264-FF6170A3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204FA-318F-4A84-981E-AABC2828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8F56-686A-416E-B0B1-2D9F99992B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C660-CAC1-4B72-B900-024C261CBB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tmosphere.mpg.de/media/archive/3452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hapter 5 Biogeochemical Cycl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124080" y="990720"/>
            <a:ext cx="6400800" cy="1752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ke Washington Case Stud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[Map of Washington]"/>
          <p:cNvPicPr/>
          <p:nvPr/>
        </p:nvPicPr>
        <p:blipFill>
          <a:blip r:embed="rId1"/>
          <a:stretch/>
        </p:blipFill>
        <p:spPr>
          <a:xfrm>
            <a:off x="1447920" y="2209680"/>
            <a:ext cx="601956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8229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trogen cycle key steps!!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rst in atmosphere as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n in the soi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 Nitrogen fixation: fixes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a form plants can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 Other bacteria convert ammonia i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itrat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 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stem-tubers-rhizomes"/>
          <p:cNvPicPr/>
          <p:nvPr/>
        </p:nvPicPr>
        <p:blipFill>
          <a:blip r:embed="rId1"/>
          <a:stretch/>
        </p:blipFill>
        <p:spPr>
          <a:xfrm>
            <a:off x="6392880" y="3886200"/>
            <a:ext cx="27511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o living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 Plants absorb nitrates and ammonia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mi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plant roo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3367080"/>
            <a:ext cx="4496040" cy="33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into soil agai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 into the atm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fr_chapter5_figure1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Line 6"/>
          <p:cNvSpPr/>
          <p:nvPr/>
        </p:nvSpPr>
        <p:spPr>
          <a:xfrm>
            <a:off x="457200" y="3657600"/>
            <a:ext cx="22860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biogeochemical cyc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 a chem takes through air, water, soil, orgs. and back to air or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taken to cycle v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eous elements fas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gaseous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drologic Cycle: Ch 19 in deta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Image of hydrologic cycle"/>
          <p:cNvPicPr/>
          <p:nvPr/>
        </p:nvPicPr>
        <p:blipFill>
          <a:blip r:embed="rId1"/>
          <a:stretch/>
        </p:blipFill>
        <p:spPr>
          <a:xfrm>
            <a:off x="304920" y="1295280"/>
            <a:ext cx="8534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Global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spho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we find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it have an atm st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carbon cycle be thrown out of bal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out of bal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rb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seous (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  Most important organic comp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sea-carbon-cycle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25" name="Line 7"/>
          <p:cNvSpPr/>
          <p:nvPr/>
        </p:nvSpPr>
        <p:spPr>
          <a:xfrm>
            <a:off x="533520" y="2514600"/>
            <a:ext cx="533160" cy="685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 flipH="1">
            <a:off x="5867280" y="3124080"/>
            <a:ext cx="990720" cy="533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troge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we find 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it have an atm st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ight the nitrogen cycle be thrown out of bal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if out of bal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403848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itrogen Cy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ost of the atm (about 8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Lightning along Oswalt Road near Overbrook, OK, 28 Mar 0"/>
          <p:cNvPicPr/>
          <p:nvPr/>
        </p:nvPicPr>
        <p:blipFill>
          <a:blip r:embed="rId1"/>
          <a:stretch/>
        </p:blipFill>
        <p:spPr>
          <a:xfrm>
            <a:off x="4495680" y="3962520"/>
            <a:ext cx="4245120" cy="2895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Bugs"/>
          <p:cNvPicPr/>
          <p:nvPr/>
        </p:nvPicPr>
        <p:blipFill>
          <a:blip r:embed="rId2"/>
          <a:stretch/>
        </p:blipFill>
        <p:spPr>
          <a:xfrm>
            <a:off x="4495680" y="762120"/>
            <a:ext cx="4191120" cy="29844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3"/>
          <p:cNvSpPr/>
          <p:nvPr/>
        </p:nvSpPr>
        <p:spPr>
          <a:xfrm>
            <a:off x="6399720" y="22860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 m. tons 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6629400" y="4038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 m. tons 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5:00:23Z</dcterms:created>
  <dc:creator>tosborne</dc:creator>
  <dc:description/>
  <dc:language>en-US</dc:language>
  <cp:lastModifiedBy>infosys</cp:lastModifiedBy>
  <dcterms:modified xsi:type="dcterms:W3CDTF">2015-09-02T19:26:29Z</dcterms:modified>
  <cp:revision>46</cp:revision>
  <dc:subject/>
  <dc:title>Chapter 4 Biogeochemical Cycles</dc:title>
</cp:coreProperties>
</file>